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BFA7-6811-4D99-8E91-96773C607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1CF9-5AF2-472A-89F6-5C67856F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96AE-48E4-46B8-B6A4-64DEF8F1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14FD-33C8-4619-B58B-7313394DE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4AB4-914A-4C7F-9BE3-D641AC992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0970-39B4-4C5B-B509-CA9381D3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E185-4917-4208-8475-BBBB792E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75D7-8E19-45D1-AD37-5A8EB847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9B33-D5AC-4194-AAE4-8D2814C0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44B2-91D6-48AB-8049-868C0F2C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3F74-CA5A-4180-B5C6-CC591C6C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F185-AB2E-44EC-9273-B4B50F9D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02D7-426D-4D10-A5B4-75D25D92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EB8D-0A40-41B7-B7FD-68EEA182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ED8B-F73D-4390-B6FE-58C83274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E119-F265-440E-A9A6-87CE644E6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6C2C-2AF3-4882-9E48-08F4B77F6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419D-A194-4F1C-A6D8-E2809AE6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20E5-DCB7-46DD-AAB1-998D7D77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3220-08D1-409F-9320-734B7C4B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7CFB-9371-4775-8D8F-1C0A4C20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885B-F4E4-48A7-A501-FD55E516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CFAE-D719-474D-A1F7-3560147A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2502-001D-4403-9729-080B1260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E70A-42C5-4B9B-99F7-4D49E50B975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955F-83F0-46D3-9729-EFD32A724B6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Основные направления деятельности ПМПК на современном этапе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635280" y="5035680"/>
            <a:ext cx="53085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Председатель ПМПК г. Казани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Июдина Светлана Владимировна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ля детей, обучающихся в специальных образовательных учреждениях 8 вида (умственно отсталые) школа №61, №142, №76, школа-интернат №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«Обучение по адаптированной основной образовательной программе общего образования для учащихся с интеллектуальной недостаточность (лёгкой, умеренной, глубокой) степени в …. класс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ля детей с умственной отсталостью, но обучающихся в общеобразовательной школе мы рекомендуе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«Обучение по адаптированной образовательной программе общего образования с учётом индивидуальных психофизических особенностей, обусловленных лёгкой интеллектуальной недостаточностью в … классе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сновные направления деятель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проведение обследования детей в возрасте от 0 до 18 лет в целях своевременного выявления особенностей в физическом или психическом развитии или отклонений в поведен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подготовка по результатам обследования рекомендаций по оказанию детям психолого-медико-педагогической помощи и организации их обучения и воспитания, подтверждение, уточнение или изменение ранее данных комиссией рекомендаци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оказание консультативной помощи родителям (законным представителям) детей, работникам образовательных учреждений, учреждений социального обслуживания, здравоохранения, других организаций по вопросам воспитания, обучения и коррекции нарушений развития детей с ограниченными возможностями здоровья и девиантным поведение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оказание учреждениям медико-социальной экспертизы содействия в разработке индивидуальной программы реабилитации ребенка-инвалид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26920" y="2492280"/>
            <a:ext cx="76932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существление учета данных о детях с ограниченными возможностями здоровья и (или) девиантным (общественно опасным) поведением, проживающих в г. Казан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) подготовка рекомендаций обучающимся 9, 11 классов с ограниченными возможностями здоровья о форме сдачи государственной итоговой аттестац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бучающийся с ОВЗ это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Физическое лицо, имеющее недостатки в физическом или психологическом развитии, подтверждённые ПМПК и препятствующие получению образования без создания специальных условий». (ст. 2 Федерального закона «Об образовании в РФ»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группу школьников с ОВЗ входят дети с различными нарушениями слуха, зрения, речи, опорно-двигательного аппарата, интеллекта, расстройствами аутистического спектр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Пакет документов, предоставляемых на ПМПК при определении формы сдачи ГИА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пия паспорта или свидетельства о рождении ребён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пия справки, подтверждающей факт инвалидности (при наличии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писка из домовой книги о составе семь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Характеристика обучающегос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писка из решения педсовета школы о направлении ребёнка на ПМПК с целью определения формы сдачи ГИ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пия справки о домашнем обучении (при наличии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риказ о домашнем обучении (при наличии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правка от врача-психиатра с развёрнутым диагнозом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ля детей с нарушением слуха – направление сурдолога с развёрнутым диагнозом и данными о восприятии шёпотной речи, аудиометрическое обследование (аудиограмм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ля детей с нарушением зрения – направление окулиста с развёрнутым диагнозом и указанием остроты зр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ля детей с нарушением опорно-двигательного аппарата – направление невролога с развёрнутым диагноз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Условия, необходимые для перевода ребёнка из одной образовательной организации в другую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28036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первое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наличие у ребёнка умственной отсталости, подтверждённое заключением районного врача психиатра (заключение платных специалистов не принимаются!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второе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стойкое неусвоение основной общеобразовательной программы, подтверждённое итоговыми оценками за каждую четверть и за год (не менее 2 – 3 двоек!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На ПМПК могут быть направлены школьник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с 1 по 4 класс включительно!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ородская комиссия начинает приём учеников общеобразовательных школ с ноября по итогам 1 четверти в течение всего календарного год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спубликанская ПМПК принимает детей г. Казан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997000"/>
            <a:ext cx="30132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 5 по 20 ма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о 2 по 10 июн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следние 3 недели авгус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51280" y="2362320"/>
            <a:ext cx="4968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ледовательно перевод ребёнка из одной образовательной организации в другую осуществляется только на следующий учебный го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Т.е. не зависимо от того, когда ребёнок прошёл городскую комиссию, учебный год он доучивается в своей школ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747360" y="828360"/>
            <a:ext cx="7797960" cy="8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сновная цель ПМП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00000" y="2361960"/>
            <a:ext cx="763128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воевременное выявление детей с особенностями в физическом или психическом развитии или отклонениями в поведении, проведение их комплексного психолого-медико-педагогического обследования и подготовка по результатам обследования рекомендаций по оказанию им психолого-медико-педагогической помощи и организации их обучения и воспитания, а также подтверждения, уточнения или изменения ранее данных рекомендаций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Пакет документов, предоставляемых на ПМПК при переводе ребёнка из одной образовательной организации в другую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пия свидетельства о рождении ребён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пия справки, подтверждающей факт инвалидности (при наличии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писка из домовой книги о составе семь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писка из истории развития ребёнка (от участкового педиатр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правление врача-психиатра на ПМП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Характеристика от классного руководител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абочие тетради по русскому языку и математик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Табель успеваемости за четверть с выставленными двойками, а в конце года копия личного дела ученика, где не должно быть указано, что ребёнок переведён в следующий класс, а в табеле успеваемости в четвертных, полугодовых, итоговых оценках выставлены не менее двух – трёх двоек по основным предмета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писка из решения педсовета о направлении ребёнка на ПМПК с целью определении дальнейшей программы обуч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правление районного отдела образования на РПМП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аши координат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настоящий момент ПМПК осуществляет свою деятельность на базе средней общеобразовательной школы №168 и находится по адресу </a:t>
            </a: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ул. Годовикова, д.8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Телефон комиссии 240-98-94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ля достижения этой цели в ПМПК осуществляется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профессиональная комплексная диагностика, направленная на выявление актуальных и потенциальных возможностей развития детей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выбор или изменение образовательного маршрут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контроль эффективности разработанных рекомендаций в отношении  детей, прошедших обследование в ПМПК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Запросы родителей при обращении в ПМП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пределение профиля дошкольного учрежд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пределение программы школьного обуч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ешение вопроса МСЭ (при оформлении или продлении инвалидности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лучение рекомендаций о форме сдачи ГИ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76932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 2013 г. ПМПК не даёт рекомендаций о воспитании и обучении ребёнка в каком-либо конкретном учрежден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компетенции комиссии определение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программы обучения ребёнка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ыбор образовательного учреждения остаётся за родителям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4000" y="2276280"/>
            <a:ext cx="828036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ородская ПМПК работает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весь календарный го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ём ведётся строго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по предварительной запис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писаться можно как по телефону, так и лично обратившись по месту работы комисс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ём осуществляется 2 раза в недел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пись на приём и консультирование ведётся ежедневно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Коллегиальное заключение ПМПК включает в себя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11280" y="2361960"/>
            <a:ext cx="835344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Выводы о наличии либо отсутствии у ребёнка особенностей в физическом или психическом развитии или отклонений в поведении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Рекомендации по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Определению формы получения образования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Определению образовательной программы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Форм и методов психолого-педагогической помощи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Созданию специальных условий для получения образования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комендации ПМПК по определению образовательной программы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ля детей, обучающихся в специальных образовательных учреждениях 1 – 2 вида (глухие и слабослышащие) – школа-интернат №6 им Ласточкиной; 3 – 4 вида (слепые и слабовидящие) – школа №172; 5 вида (тяжёлые нарушения речи) – школа-интернат №7; 6 вида (нарушения опорно-двигательного аппарата) – школа №78 и школа-интернат №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«Обучение по адаптированной основной общеобразовательной программе (начального, основного, среднего) общего образования для учащихся с нарушением (слуха, зрения, речи, опорно-двигательного аппарата) в … класс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ля детей, имеющих нарушения слуха, зрения, речи, ОДА, но обучающихся в общеобразовательной школе мы рекомендуе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«Обучение по адаптированной образовательной программе (начального, основного, среднего) общего образования с учётом индивидуальных психофизических особенностей, обусловленных нарушением (слуха, зрения, речи, ОДА, эмоционально-волевой сферы) в … класс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7T11:25:08Z</dcterms:created>
  <dc:creator>Your User Name</dc:creator>
  <dc:description/>
  <dc:language>en-US</dc:language>
  <cp:lastModifiedBy>Your User Name</cp:lastModifiedBy>
  <dcterms:modified xsi:type="dcterms:W3CDTF">2015-12-03T09:21:44Z</dcterms:modified>
  <cp:revision>8</cp:revision>
  <dc:subject/>
  <dc:title>Слайд 1</dc:title>
</cp:coreProperties>
</file>